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A8A-246A-408D-8697-FEF9A2AE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206-1AEE-4DFE-BF17-32CE4DFB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E2C-A98F-4968-9DEA-B8CEF136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F31-F86E-42ED-B287-7BEA2254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E4E0-FFE4-4EAD-8FF2-40DD648F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4477-C7B6-43F0-B669-5847E9A9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DA39-4B9D-446E-BD69-289D8046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F7D3-CA16-4294-A01A-5164A4B8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CA9D-90A7-452A-9973-DCD33BEF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D093-76F3-490B-BA25-82EB7B26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2A51-03B1-4DD8-B6E9-66772C8C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B95-65CF-478B-B1F0-1EFB3848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E3A1-25A1-4DC4-9B52-B22117C2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672F-D397-4D66-A548-590FDE94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5DCA-CAC9-4DAA-BDED-00F51350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563D-D73D-4168-9437-A84E93ED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6E2C-F8F2-44A8-B14B-E5BBED92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589-DA71-4102-8171-EBC7D391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F9A-7455-4BD6-9E3D-0F4804CA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33D-7402-4F9F-81D9-A13F3658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A59C-0B3A-4845-BFF9-DF00C3D9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C09-DE45-47FB-8E63-AA81599A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BB0-2FF4-4976-A185-A60F96C1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9A3-52A1-4E8E-A1C5-D28AB1BB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EDA1-BEEC-45D0-B9C3-3A8DCED57CC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179B-5A17-4902-B102-8EC5C16BC51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8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ar-EG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2060"/>
                </a:solidFill>
                <a:latin typeface="Arial"/>
              </a:rPr>
              <a:t>Large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8000" y="990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anatomy of the Base of the appendix (McBurney’s point)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4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represented by a point at the junction of lateral 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 baseline="-25000">
                <a:solidFill>
                  <a:srgbClr val="001933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rd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and medial 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 baseline="-25000">
                <a:solidFill>
                  <a:srgbClr val="001933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rd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of a line connecting anterior superior iliac spine and the umbili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979640" y="3500280"/>
            <a:ext cx="53388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no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nflammation of the appendix (appendicitis) causes ill-defined colicky pain, felt in the umbilical region </a:t>
            </a:r>
            <a:r>
              <a:rPr b="1" i="1" lang="en-US" sz="3200" spc="-1" strike="noStrike" u="sng">
                <a:solidFill>
                  <a:srgbClr val="d9d8ec"/>
                </a:solidFill>
                <a:uFillTx/>
                <a:latin typeface="Times New Roman"/>
                <a:ea typeface="Times New Roman"/>
              </a:rPr>
              <a:t>(referred pain)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Because, the appendix is supplied with sympathetic fibers from 10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horacic spinal cord segment, and the 10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thoracic somatic nerve supplies the skin of umbilical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ending colon</a:t>
            </a:r>
            <a:br>
              <a:rPr sz="30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143000"/>
            <a:ext cx="8575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begins as a continuation of the cecum and ends just below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t continues with the   transverse colon 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ight colic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lex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eritoneal covering: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covered by peritoneum anteriorly and on each sid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58920" y="3357720"/>
            <a:ext cx="678168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upply of ascending colon</a:t>
            </a:r>
            <a:br>
              <a:rPr sz="34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15000"/>
              </a:lnSpc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terial supply: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From superior mesenteric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15000"/>
              </a:lnSpc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leocolic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15000"/>
              </a:lnSpc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Right Colic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15000"/>
              </a:lnSpc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15000"/>
              </a:lnSpc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Venous drainage: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It drains its venous blood into the veins corresponding to the arterial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ermi"/>
          <p:cNvPicPr/>
          <p:nvPr/>
        </p:nvPicPr>
        <p:blipFill>
          <a:blip r:embed="rId1"/>
          <a:stretch/>
        </p:blipFill>
        <p:spPr>
          <a:xfrm>
            <a:off x="4859280" y="1916280"/>
            <a:ext cx="40384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verse colon</a:t>
            </a:r>
            <a:br>
              <a:rPr sz="3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76176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runs from the right colic (hepatic) flexure across the abdomen to the </a:t>
            </a: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left colic (splenic) flexure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completely covered with peritoneum which forms transverse mesocolon and it is freely mobile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Relations</a:t>
            </a:r>
            <a:r>
              <a:rPr b="1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nterior relations: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Liver, stomach and greater omentum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Posterior relations: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Second part duodenum, head of pancreas, jejunum and left kidney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97" descr="http://4.bp.blogspot.com/_SUI6mWLP3x8/TJDDFz_OeQI/AAAAAAAACk0/uhSR-F7GIN0/s1600/stenosis++posterior+relations.jpg"/>
          <p:cNvPicPr/>
          <p:nvPr/>
        </p:nvPicPr>
        <p:blipFill>
          <a:blip r:embed="rId1"/>
          <a:stretch/>
        </p:blipFill>
        <p:spPr>
          <a:xfrm>
            <a:off x="1476360" y="4191120"/>
            <a:ext cx="63244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verse mesoco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052280"/>
            <a:ext cx="84582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ransverse colon is suspended from the posterior abdominal wall by its</a:t>
            </a: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ransverse mesocolon which is attached to the anterior border of pancreas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Contents of transverse mesocolon</a:t>
            </a:r>
            <a:r>
              <a:rPr b="1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ransverse colon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Middle colic artery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Extra-peritoneal fat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ympathetic nerves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97" descr="http://4.bp.blogspot.com/_SUI6mWLP3x8/TJDDFz_OeQI/AAAAAAAACk0/uhSR-F7GIN0/s1600/stenosis++posterior+relations.jpg"/>
          <p:cNvPicPr/>
          <p:nvPr/>
        </p:nvPicPr>
        <p:blipFill>
          <a:blip r:embed="rId1"/>
          <a:stretch/>
        </p:blipFill>
        <p:spPr>
          <a:xfrm>
            <a:off x="3492360" y="3645000"/>
            <a:ext cx="545940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37680"/>
            <a:ext cx="792468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767ff"/>
                </a:solidFill>
                <a:latin typeface="Times New Roman"/>
                <a:ea typeface="Times New Roman"/>
              </a:rPr>
              <a:t>Blood supply of transverse colon</a:t>
            </a:r>
            <a:br>
              <a:rPr sz="34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914040"/>
            <a:ext cx="403848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7440" indent="-577440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rterial suppl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3040" indent="-488520" rtl="1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Right 2/3 by right and middle colic arteries of </a:t>
            </a:r>
            <a:r>
              <a:rPr b="0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superior mesenteric artery</a:t>
            </a:r>
            <a:r>
              <a:rPr b="0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3040" indent="-488520" rtl="1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Left 1/3 by ascending branch of left colic artery from </a:t>
            </a:r>
            <a:r>
              <a:rPr b="0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inferior mesenteric artery</a:t>
            </a:r>
            <a:r>
              <a:rPr b="0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440" indent="-577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Times New Roman"/>
                <a:ea typeface="Times New Roman"/>
              </a:rPr>
              <a:t>Venous drainage: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It drains its venous blood into the veins corresponding to the arterial supply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96" descr="http://t2.gstatic.com/images?q=tbn:ANd9GcTF0YUIklaF0RcXqhPIH5XiqYLYZDA7VmvSazAwYYbUeRNz9ulV"/>
          <p:cNvPicPr/>
          <p:nvPr/>
        </p:nvPicPr>
        <p:blipFill>
          <a:blip r:embed="rId1"/>
          <a:stretch/>
        </p:blipFill>
        <p:spPr>
          <a:xfrm>
            <a:off x="4572000" y="198900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ing colon</a:t>
            </a:r>
            <a:br>
              <a:rPr sz="3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990720"/>
            <a:ext cx="4407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runs from the left colic (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plenic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) flexure and descends till the pelvic brim to continue as 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igmoid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pelvic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) colon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covered by peritoneum anteriorly and on each side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colon labeled"/>
          <p:cNvPicPr/>
          <p:nvPr/>
        </p:nvPicPr>
        <p:blipFill>
          <a:blip r:embed="rId1"/>
          <a:stretch/>
        </p:blipFill>
        <p:spPr>
          <a:xfrm>
            <a:off x="4788000" y="1916280"/>
            <a:ext cx="405288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 of descending col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428480"/>
            <a:ext cx="4643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Anteriorly:</a:t>
            </a:r>
            <a:r>
              <a:rPr b="1" lang="en-US" sz="2200" spc="-1" strike="noStrike">
                <a:solidFill>
                  <a:srgbClr val="0019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Coils of small intestine, the greater omentum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Posteriorly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1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viscera:  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the lateral border of  left kidney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4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Muscles: 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the transversus abdominis muscle, the quadratus lumborum,, the iliacus, and the left psoas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1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bone: 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the iliac crest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33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19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1933"/>
                </a:solidFill>
                <a:latin typeface="Arial"/>
              </a:rPr>
              <a:t>nerves: 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The iliohypogastric and the ilioinguinal nerves, the lateral cutaneous nerve of the thigh, and the femoral ne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572000" y="1428840"/>
            <a:ext cx="4572000" cy="52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5700" spc="-1" strike="noStrike">
                <a:solidFill>
                  <a:srgbClr val="3f477f"/>
                </a:solidFill>
                <a:latin typeface="Times New Roman"/>
                <a:ea typeface="Gulim"/>
              </a:rPr>
              <a:t>Large Intestine</a:t>
            </a:r>
            <a:br>
              <a:rPr sz="3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Length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is about 1.5 met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Part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Caecum and appendi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- Colon: (ascending,transverse,descending and pelvi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Flexures (right and left colic flexure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Rectu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- Anal 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32" descr="http://catalog.nucleusinc.com/imagescooked/406W.jpg"/>
          <p:cNvPicPr/>
          <p:nvPr/>
        </p:nvPicPr>
        <p:blipFill>
          <a:blip r:embed="rId1"/>
          <a:stretch/>
        </p:blipFill>
        <p:spPr>
          <a:xfrm>
            <a:off x="4859280" y="2133720"/>
            <a:ext cx="403380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upply of descending co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1628640"/>
            <a:ext cx="4392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 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rterial Supply:</a:t>
            </a: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Upper and lower left colic arteries (inferior mesentric)</a:t>
            </a: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hey form marginal arteries (vasa recti) at the wall of the colon</a:t>
            </a: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767ff"/>
                </a:solidFill>
                <a:latin typeface="Times New Roman"/>
                <a:ea typeface="Times New Roman"/>
              </a:rPr>
              <a:t>Venous drainage:</a:t>
            </a: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to inferior mesentric vein which ends in splenic vein</a:t>
            </a: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533840" cy="49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vic (sigmoid) colon</a:t>
            </a:r>
            <a:br>
              <a:rPr sz="3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980640"/>
            <a:ext cx="4176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begins at the left side of the pelvic brim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ends at the 3</a:t>
            </a:r>
            <a:r>
              <a:rPr b="0" lang="en-US" sz="28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rd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sacral piece where the rectum begins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describes S-shaped course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completely covered with peritoneum and suspended by the sigmoid mesocolon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http://en.academic.ru/pictures/enwiki/70/Female_anatomy.png"/>
          <p:cNvPicPr/>
          <p:nvPr/>
        </p:nvPicPr>
        <p:blipFill>
          <a:blip r:embed="rId1"/>
          <a:stretch/>
        </p:blipFill>
        <p:spPr>
          <a:xfrm>
            <a:off x="4140360" y="981000"/>
            <a:ext cx="477504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upply of sigmoid co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rterial supply: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igmoid branches of the inferior mesenteric artery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Times New Roman"/>
                <a:ea typeface="Times New Roman"/>
              </a:rPr>
              <a:t>Venous drainage</a:t>
            </a:r>
            <a:r>
              <a:rPr b="1" lang="en-US" sz="2800" spc="-1" strike="noStrike">
                <a:solidFill>
                  <a:srgbClr val="6767ff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drains its venous blood into the veins corresponding to the arterial supply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3708360" y="1268280"/>
            <a:ext cx="518148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moid meso-co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s a peritoneal fold which is attached to the posterior pelvic wall by an inverted </a:t>
            </a: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V-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shaped root</a:t>
            </a: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Contents of the sigmoid mesocolon</a:t>
            </a:r>
            <a:r>
              <a:rPr b="1" lang="en-US" sz="3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igmoid colon in the free border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igmoid vessels in the lateral limb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uperior rectal vessels in the medial limb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or mesenteric artery</a:t>
            </a:r>
            <a:br>
              <a:rPr sz="3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052640"/>
            <a:ext cx="4500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Origin (start): From the front of the aorta opposite the L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runs obliquely down to the pelvic br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ermination: in the root of the pelvic meso</a:t>
            </a:r>
            <a:r>
              <a:rPr b="0" lang="en-US" sz="3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olon as the </a:t>
            </a: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uperior rectal artery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7131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 of inferior mesentric arte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15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Left colic artery</a:t>
            </a:r>
            <a:r>
              <a:rPr b="0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rtl="1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passes up to the left towards the splenic flexure. It divides into two branches; ascending and descending branches which anastomose with the left branch of the middle colic artery and with the sigmoid branches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rtl="1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rtl="1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moid arter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4 branches pass forwards between the layers of the pelvic mesoclon to anastomose at the wall of the pelvic col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 Superior rectal art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</a:t>
            </a:r>
            <a:br>
              <a:rPr sz="7000"/>
            </a:br>
            <a:br>
              <a:rPr sz="7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. Shawky Tay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Main Differences between Small and Large intestine</a:t>
            </a:r>
            <a:r>
              <a:rPr b="0" lang="en-US" sz="4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br>
              <a:rPr sz="31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Tenia Coli: 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e the longitudinal outer muscle layer which is represented by 3 bands. They are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not found in the appendix and rect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Sacculations: 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his due the length of tenia coli is shorter than the length of the large intest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Appendices Epiploicae: 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mall sacs of peritoneum-covered fat hanging from the surface of the col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33" descr="http://www.accesssurgery.com/loadBinary.aspx?name=dohe13&amp;filename=dohe13_c030f002t.gif"/>
          <p:cNvPicPr/>
          <p:nvPr/>
        </p:nvPicPr>
        <p:blipFill>
          <a:blip r:embed="rId1"/>
          <a:stretch/>
        </p:blipFill>
        <p:spPr>
          <a:xfrm>
            <a:off x="4716360" y="170028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ecum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1557000"/>
            <a:ext cx="42498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a mobile blind sac at the beginning of the large intes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Position: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occupies the right iliac fossa and is completely</a:t>
            </a: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covered</a:t>
            </a: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with peritone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32" descr="http://catalog.nucleusinc.com/imagescooked/406W.jpg"/>
          <p:cNvPicPr/>
          <p:nvPr/>
        </p:nvPicPr>
        <p:blipFill>
          <a:blip r:embed="rId1"/>
          <a:stretch/>
        </p:blipFill>
        <p:spPr>
          <a:xfrm>
            <a:off x="4859280" y="2133720"/>
            <a:ext cx="403380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37680"/>
            <a:ext cx="7924680" cy="6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Caecum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Relations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Anteriorly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nterior abdominal wall, greater omentum, and coils of small intestine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Posteriorly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Muscles: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Psoas major and iliacus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Arteries: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Right gonadal and External iliac artery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Nerves: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Femoral, genitofemoral, and lateral cutaneous nerve of the thigh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34" descr="http://www.dartmouth.edu/~humananatomy/figures/chapter_27/27-12_files/image002.gif"/>
          <p:cNvPicPr/>
          <p:nvPr/>
        </p:nvPicPr>
        <p:blipFill>
          <a:blip r:embed="rId1"/>
          <a:stretch/>
        </p:blipFill>
        <p:spPr>
          <a:xfrm>
            <a:off x="3995640" y="1989000"/>
            <a:ext cx="49532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37680"/>
            <a:ext cx="792468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upply of caecu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terial supply: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nterior and posterior 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caecal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teries from 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leocolic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tery which is a branch from superior mesenteric artery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Venous drainage: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into superior mesenteric vein then into portal vein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termi"/>
          <p:cNvPicPr/>
          <p:nvPr/>
        </p:nvPicPr>
        <p:blipFill>
          <a:blip r:embed="rId1"/>
          <a:stretch/>
        </p:blipFill>
        <p:spPr>
          <a:xfrm>
            <a:off x="5181480" y="1916280"/>
            <a:ext cx="396252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miform appendix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a worm like tube, about 10 cm long, opens by its base into posteromedial aspect of the caecum below the terminal ileum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rtl="1">
              <a:lnSpc>
                <a:spcPct val="115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has a mesentery known as mesoappendix which is a triangular peritoneal fold, containing the appendicular artery in its free border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rtl="1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s of the Append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1. Retrocecal (65%)                                   2. Pelvic (30%)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3. Subcecal (3%)                                    4. Pre or post- ileal (2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0740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upply of the appendix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terial supply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: appendicular artery from ileocolic ar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Venous drainge: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nto superior mesenteric v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20:16:45Z</dcterms:created>
  <dc:creator>Prof. Dr. Shawky</dc:creator>
  <dc:description/>
  <dc:language>en-US</dc:language>
  <cp:lastModifiedBy>Safa Osman</cp:lastModifiedBy>
  <dcterms:modified xsi:type="dcterms:W3CDTF">2016-08-16T11:03:18Z</dcterms:modified>
  <cp:revision>8</cp:revision>
  <dc:subject/>
  <dc:title>Large intestine</dc:title>
</cp:coreProperties>
</file>